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CD2-9CDB-4412-8EE6-9EFD75ED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A43-EFCA-46FE-AAD6-BB0B844A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436-EFF1-4325-ACE1-2B31C98A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6DE-9803-4458-89AC-7BDEA053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5D4-8AB4-438D-9F50-26452257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72E-070B-493A-AB0D-9B76C97D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EDB-4D0D-46FC-8025-1FA1BE3A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6E3-DE04-40F9-9786-A062D4B9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21F-698E-4973-9EF0-DB862E5B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EF4-5907-4E43-9EB6-B3A6C29A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8FD-50C7-4C0B-8CD4-FBC902F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1EB-95A5-4C27-8428-60BE7BD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95360" y="6400440"/>
            <a:ext cx="2311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9053-1B50-4479-B27B-08F63F203E8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400440"/>
            <a:ext cx="31366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400440"/>
            <a:ext cx="2311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AD6C-B5FB-410F-BBAA-4E879B3CD5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6"/>
          <p:cNvSpPr/>
          <p:nvPr/>
        </p:nvSpPr>
        <p:spPr>
          <a:xfrm>
            <a:off x="7099200" y="6400800"/>
            <a:ext cx="23115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174B-B252-4B10-A03D-8BAA29AD2A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1734480" y="2060640"/>
            <a:ext cx="686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vironmental Dimens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 the Firm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ny Poli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 &amp; 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4120920" y="597528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antin C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rciuma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nul I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Questions and Answers – REF 10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Which are policy variab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ich are ownership polic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Which are growth polici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How many diversification policy 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Which are the investment polic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What does it mean project size poli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 What did ownership control mean where the management consis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rely of local national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Questions and Answers – REF 1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2160" y="99972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52520" y="5214960"/>
            <a:ext cx="89154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23:44:46Z</dcterms:created>
  <dc:creator>CST</dc:creator>
  <dc:description/>
  <cp:keywords/>
  <dc:language>en-US</dc:language>
  <cp:lastModifiedBy>Costi Circiumaru</cp:lastModifiedBy>
  <dcterms:modified xsi:type="dcterms:W3CDTF">2008-05-22T20:32:31Z</dcterms:modified>
  <cp:revision>26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31033</vt:lpwstr>
  </property>
</Properties>
</file>