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9252-97E0-4E28-AC99-6778CBE4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AC5-368B-46C6-A109-CED2690F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E0A-D15C-4F53-BC3A-4025A55B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D6C-0F58-4FD9-B049-7B8F422A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A4E-BE90-40F5-81A0-78E1A41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2AB-1B3B-46A9-96CF-E240F77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220-9060-4B30-9A89-DA7122AB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1EC-9D30-4ABF-B3C8-F41215A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7A6-7B21-4A07-829C-5AFE1A63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A95-5CFC-474E-8660-CDA84606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923-EB2E-4F11-877C-8C25499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0FE-413A-4992-9A84-8B61109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400440"/>
            <a:ext cx="2311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834-433E-4217-BEC3-3815DD88ED4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400440"/>
            <a:ext cx="31366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2832-AF82-4FA7-B137-094A8C0C51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7099200" y="6400800"/>
            <a:ext cx="2311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E7E8-8C23-43F6-B495-3FA603F9F4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734480" y="2060640"/>
            <a:ext cx="686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vironmental Dimens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the Fir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 &amp; 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4120920" y="59752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in 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rcium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nul 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Which are policy vari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wnership; growth; product and process design; inves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ich are ownership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ne Hundred-percent Ownership; Acceptance of Minority Foreign Equit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re for Foreign Equity Interest; Desire for Majority Foreign Equity Interes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exibility in Regard to Foreign Equity Interest; Choice of Foreign Partners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Technical Information and Skill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hich are growth polici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Diversification;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ow many diversification policy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Geographical diversification ; product divers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2160" y="9997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 Which are the investment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Internationalization; regional specialization size, and the investment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new" dollar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What does it mean project size poli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Some companies exhibited fixed policies relative to the size of enterpris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which they would become associa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8200" y="2786040"/>
            <a:ext cx="89154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hat did ownership control mean where the management consis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ly of local national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ne could anticipate that in fact control could be assured only so long 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olicies of the firm coincided with the interests of the host govern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f local associa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23:44:46Z</dcterms:created>
  <dc:creator>CST</dc:creator>
  <dc:description/>
  <cp:keywords/>
  <dc:language>en-US</dc:language>
  <cp:lastModifiedBy>Laptop3</cp:lastModifiedBy>
  <dcterms:modified xsi:type="dcterms:W3CDTF">2008-05-22T19:53:28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31033</vt:lpwstr>
  </property>
</Properties>
</file>